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126-692A-4998-8E1D-C3DC8068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F21-F2AF-46E4-8A76-EA92BD5B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116-E534-4483-BC17-6E62BD25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208-1B8D-4795-8BA0-BD15C0CE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72A-3C33-459F-A313-8F1292F9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92B-097D-4000-A8C1-83AD160B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3F9-C5BB-40B2-AB51-07BAB84A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5FA-AB01-4879-B425-8AA4FDB6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45E-CF00-4F9F-93C8-DDE0BCB1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CC5-C793-4E68-9E37-6E1B7A18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3B3-B808-44C4-B516-2EA46B76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8DA-4AFD-4568-80F7-7AFCB324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0145-45D3-4109-B28C-997FEF3A3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name for the synthesis of DNA molecu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6400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DNA replicate?  Why is an exact replica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ew cells are made, more DNA is needed.  Each DNA molecule contains instructions for making specific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NA is not replicated accurately, the cell that gets the new DNA molecule won’t be able to make the proteins needed by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replic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nucleus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ere DNA is f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86400" y="2666880"/>
            <a:ext cx="3390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es replic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before m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ar the end of inter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76201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replic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“unzi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break the hydrogen bonds, separating the DNA molecule into 2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replic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ary bases attach to the temp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nucleotides (DNA units) in the cell combine with the exposed bases according to the rules of base pai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original strand of DNA serves as a pattern for the new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replic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wo molecules of DNA identical to each other and the original molecule ar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replic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X-ray pictures of DNA crystals &amp; studied the diffraction patterns that resu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not receive credit for her contribution until after h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867280" y="3962520"/>
            <a:ext cx="2667240" cy="264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4419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son &amp; C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did any experiments on their own; used data &amp; research from others to deduce the structure &amp; make a model in 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 Nobel prize in 19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DNA fou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forms the chromosomes, which are found in the nuclei of our body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6960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 basic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eoxyribose (s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itroge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5943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types of nitrogen b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- Adenine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- Guanin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- Cytosine 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65760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pairing nitrogen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Reason:  they fit together like puzz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T (2 bonding sit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(3 bonding si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8001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K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YOUR MOD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695760" cy="441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3657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AKES DNA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where does it come fr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NA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06404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3:28:04Z</dcterms:created>
  <dc:creator>NHS NPS</dc:creator>
  <dc:description/>
  <dc:language>en-US</dc:language>
  <cp:lastModifiedBy>NHS NPS</cp:lastModifiedBy>
  <dcterms:modified xsi:type="dcterms:W3CDTF">2012-01-24T16:25:14Z</dcterms:modified>
  <cp:revision>5</cp:revision>
  <dc:subject/>
  <dc:title>DNA &amp; DNA Replication</dc:title>
</cp:coreProperties>
</file>